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CB5D-BD73-455E-A9CB-3C321B19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9226C-5277-4E59-B0A5-B1772F31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D84B0-E99F-4D75-88F7-C6BE3903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7D8A0-CBFB-408D-B4DC-65AB1E0E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FF7B-A57C-499B-98D5-839C040F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4851-90E8-4BCA-80F0-897A249E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80B2-4BFE-4FF9-BE58-67A7CC0D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C8AD-A6B3-46A6-9C9C-03E1632E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C869-77AD-4067-92FF-014DD5A0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CF8B-A0DB-457F-9102-C5B4157B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78A5-0A00-4B31-8767-73D30142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69545-1C1C-472E-94AC-823CA950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5F04-6424-4E50-8C4B-456EA657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818B-D239-4546-8182-166BEC90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1B18-1D14-4D4F-8467-F74D0B64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2A3D-8890-40A6-9390-874E9587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11D5-C1C9-4334-81C9-CFA6D9AB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5BA59-C1A7-4967-B6C9-BC389958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ACB3B-E062-4218-B908-35366F0E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D8465-5895-4156-8F12-5AF23F9F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AA32-7601-4890-B535-4E77DB97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E467E-A8D4-40D8-9F28-A234407C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7F460-F700-436A-8966-0AC53713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744C-F079-44D5-9BCE-81843E8E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5205-A247-4AB4-BAC7-EB450FAABE6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DC02-E0B1-4419-B4D8-A4BD4FA46A0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691640"/>
            <a:ext cx="11131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06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8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й да съм и Тебе да отда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ва чест и покло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йта воля учи ме да зна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я свят зако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831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й да съм, вечно Тв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л в Теб намирам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й да съм, само Тво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раб верен, вечно Тв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бе като имам, съм, аз знам, тъй блажен, тъй блаж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чко зарад Тебе аз ще дам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умря за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831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й да съм, вечно Тв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л в Теб намирам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й да съм, само Тво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раб верен, вечно Тв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 Земни радости да са далеч, близо стой, близо сто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бъди за мене щит и меч, Утешител мой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18313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й да съм, вечно Тв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л в Теб намирам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й да съм, само Тво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раб верен, вечно Тв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0:12:50Z</dcterms:modified>
  <cp:revision>51</cp:revision>
  <dc:subject/>
  <dc:title>Slide 1</dc:title>
</cp:coreProperties>
</file>